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BF7-5A7D-452C-A68B-715FA774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C47-99D7-4947-B3B8-2268782C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981-68C6-436A-9BC0-F41FFDD3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FEC-0A9B-45AC-B46C-9B11D6C0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C948-CF33-4E5E-AD64-32FCC421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311B-8365-41DB-800A-BF6D43D3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7E3B-E1AA-45C0-9112-D61B95FB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5587-1A4D-446C-8E2F-17CBBEC6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DE2-56A6-46DD-96D6-5DE903C9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074D-FAE6-43A1-AAD5-55E6564F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384F-C519-412F-9A73-2E8AA3EE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9AF-71BF-45C5-A036-084A6015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875D-BB40-4005-9225-CC465DA2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107B-00B0-4838-8A78-D9C7EA8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62FA-C724-4371-ACB5-54376525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4BB7-D3C1-4147-B239-A7A62742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0CD2-D87C-4D7B-942A-FA856FFE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E93-83C5-411B-87F0-AC25D8EC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A27-CDC1-42E8-99C5-31749E20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D49-8755-4FEA-8C63-3DE247A4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C9D-F9F0-4F86-B115-64455DF8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B70-C5F1-4113-8DDF-573F6A7A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5C1-9CB6-49D8-81A0-C8832FA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0A7-8A28-40E3-88A6-45D92640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10A4-3263-41A0-BDEA-56A2AE27DA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411-F17C-4D7E-A947-628F61589A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営業部門の組織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4960" y="1717560"/>
            <a:ext cx="7992360" cy="4247640"/>
            <a:chOff x="534960" y="1717560"/>
            <a:chExt cx="7992360" cy="4247640"/>
          </a:xfrm>
        </p:grpSpPr>
        <p:cxnSp>
          <p:nvCxnSpPr>
            <p:cNvPr id="89" name="_s3109"/>
            <p:cNvCxnSpPr>
              <a:stCxn id="90" idx="0"/>
              <a:endCxn id="91" idx="1"/>
            </p:cNvCxnSpPr>
            <p:nvPr/>
          </p:nvCxnSpPr>
          <p:spPr>
            <a:xfrm flipV="1">
              <a:off x="1554840" y="4806720"/>
              <a:ext cx="2520" cy="38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" name="_s3105"/>
            <p:cNvCxnSpPr>
              <a:stCxn id="93" idx="0"/>
              <a:endCxn id="94" idx="2"/>
            </p:cNvCxnSpPr>
            <p:nvPr/>
          </p:nvCxnSpPr>
          <p:spPr>
            <a:xfrm flipV="1" rot="16200000">
              <a:off x="5527800" y="3245760"/>
              <a:ext cx="386640" cy="1190520"/>
            </a:xfrm>
            <a:prstGeom prst="bentConnector3">
              <a:avLst>
                <a:gd name="adj1" fmla="val 294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" name="_s3103"/>
            <p:cNvCxnSpPr>
              <a:stCxn id="96" idx="0"/>
              <a:endCxn id="94" idx="1"/>
            </p:cNvCxnSpPr>
            <p:nvPr/>
          </p:nvCxnSpPr>
          <p:spPr>
            <a:xfrm flipH="1" flipV="1" rot="5400000">
              <a:off x="4337640" y="3245400"/>
              <a:ext cx="386640" cy="1191240"/>
            </a:xfrm>
            <a:prstGeom prst="bentConnector3">
              <a:avLst>
                <a:gd name="adj1" fmla="val 294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" name="_s3101"/>
            <p:cNvCxnSpPr>
              <a:stCxn id="91" idx="0"/>
              <a:endCxn id="98" idx="1"/>
            </p:cNvCxnSpPr>
            <p:nvPr/>
          </p:nvCxnSpPr>
          <p:spPr>
            <a:xfrm flipV="1">
              <a:off x="1554840" y="3647880"/>
              <a:ext cx="2520" cy="38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" name="_s3095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825520" y="1194120"/>
              <a:ext cx="386640" cy="2976840"/>
            </a:xfrm>
            <a:prstGeom prst="bentConnector3">
              <a:avLst>
                <a:gd name="adj1" fmla="val 2954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" name="_s3094"/>
            <p:cNvCxnSpPr>
              <a:stCxn id="94" idx="0"/>
              <a:endCxn id="101" idx="1"/>
            </p:cNvCxnSpPr>
            <p:nvPr/>
          </p:nvCxnSpPr>
          <p:spPr>
            <a:xfrm flipV="1" rot="16200000">
              <a:off x="4635360" y="2384280"/>
              <a:ext cx="386640" cy="596160"/>
            </a:xfrm>
            <a:prstGeom prst="bentConnector3">
              <a:avLst>
                <a:gd name="adj1" fmla="val 2954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_s3093"/>
            <p:cNvCxnSpPr>
              <a:stCxn id="98" idx="0"/>
              <a:endCxn id="101" idx="0"/>
            </p:cNvCxnSpPr>
            <p:nvPr/>
          </p:nvCxnSpPr>
          <p:spPr>
            <a:xfrm flipH="1" flipV="1" rot="5400000">
              <a:off x="2849760" y="1194480"/>
              <a:ext cx="386640" cy="2976480"/>
            </a:xfrm>
            <a:prstGeom prst="bentConnector3">
              <a:avLst>
                <a:gd name="adj1" fmla="val 2954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" name="_s3089"/>
            <p:cNvSpPr/>
            <p:nvPr/>
          </p:nvSpPr>
          <p:spPr>
            <a:xfrm>
              <a:off x="3510720" y="171756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営業本部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3090"/>
            <p:cNvSpPr/>
            <p:nvPr/>
          </p:nvSpPr>
          <p:spPr>
            <a:xfrm>
              <a:off x="534960" y="287604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関東支部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3091"/>
            <p:cNvSpPr/>
            <p:nvPr/>
          </p:nvSpPr>
          <p:spPr>
            <a:xfrm>
              <a:off x="4106160" y="287604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関西支部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092"/>
            <p:cNvSpPr/>
            <p:nvPr/>
          </p:nvSpPr>
          <p:spPr>
            <a:xfrm>
              <a:off x="6486840" y="287604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海外部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00"/>
            <p:cNvSpPr/>
            <p:nvPr/>
          </p:nvSpPr>
          <p:spPr>
            <a:xfrm>
              <a:off x="534960" y="403452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8100000"/>
            </a:gradFill>
            <a:ln w="3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東京支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3102"/>
            <p:cNvSpPr/>
            <p:nvPr/>
          </p:nvSpPr>
          <p:spPr>
            <a:xfrm>
              <a:off x="2915640" y="403452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8100000"/>
            </a:gradFill>
            <a:ln w="3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大阪支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04"/>
            <p:cNvSpPr/>
            <p:nvPr/>
          </p:nvSpPr>
          <p:spPr>
            <a:xfrm>
              <a:off x="5296320" y="403452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8100000"/>
            </a:gradFill>
            <a:ln w="3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名古屋支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108"/>
            <p:cNvSpPr/>
            <p:nvPr/>
          </p:nvSpPr>
          <p:spPr>
            <a:xfrm>
              <a:off x="534960" y="519300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8100000"/>
            </a:gradFill>
            <a:ln w="3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カスタマセンタ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2:10:17Z</dcterms:created>
  <dc:creator>鈴木　誠</dc:creator>
  <dc:description/>
  <dc:language>en-US</dc:language>
  <cp:lastModifiedBy>鈴木　誠</cp:lastModifiedBy>
  <dcterms:modified xsi:type="dcterms:W3CDTF">2003-11-27T12:52:32Z</dcterms:modified>
  <cp:revision>2</cp:revision>
  <dc:subject/>
  <dc:title>スライド 1</dc:title>
</cp:coreProperties>
</file>