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DF8E-BFD7-4192-9DD9-F9D2EBC01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3DC5-56D9-420D-8E07-9507EC224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F85F-3DA2-4F13-A81D-079AFC823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B377-BE98-4551-B462-7A1BE6F74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61BB-47D6-4708-9E71-A7BBE2447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E673-BAEA-4A07-A646-2F698245E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A650-68FF-49FE-9F5C-B4D70D708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5432-731A-4463-85B6-8D3B8995A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EA1C-666F-492E-A641-5E0EE5AD8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A92A-010A-4647-8BD7-EE6B9D2C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521E-9AEA-4469-9CA5-4957B4EC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C988-F996-4F88-ADE1-9A39A8BA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3352F-B298-4A66-87E4-B7C5C26F9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2003</a:t>
            </a:r>
            <a:r>
              <a:rPr b="0" lang="zh-CN" sz="4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年度研究発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○○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大学科学技術研究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133720"/>
            <a:ext cx="31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回定例学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今回発表する内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度の研究目標と評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度研究内容の紹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予算と費用研究内容の発表（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5T19:54:56Z</dcterms:created>
  <dc:creator>鈴木　誠</dc:creator>
  <dc:description/>
  <dc:language>en-US</dc:language>
  <cp:lastModifiedBy>鈴木　誠</cp:lastModifiedBy>
  <dcterms:modified xsi:type="dcterms:W3CDTF">2003-11-26T07:41:07Z</dcterms:modified>
  <cp:revision>4</cp:revision>
  <dc:subject/>
  <dc:title>2003年度研究発表</dc:title>
</cp:coreProperties>
</file>