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F44-7FE0-4678-8FED-9BDCABC9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E89-C054-42FC-A8E9-475D435C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879-83D7-470A-9EB7-6559A7FB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4E7-4A23-4A8F-8433-E29458B6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73D2-AC62-4CB3-821F-32455688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1FBC-1540-4971-828B-C59592BF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72DB-14FF-4E10-B4DB-8EEA0C50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3FC0-363D-46AB-BB9E-459A4BBC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5EB1-0576-4841-9CDA-8DAE5EF7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9BED-89A4-4350-8DC2-861EC0F1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BF6D-2896-45AA-A3E8-233737B6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C6A-D909-43D8-AFA7-B07F188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4FF7-1E79-4FB5-8D01-A661345B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43F3-9A22-482F-8827-8539354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7AF5-367D-4021-8639-AC4B0F55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B183-DEB9-44C1-8C12-4F3E409F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E00B-1CA4-4094-825C-47D3B296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546-5856-40E7-9CC2-372F2EDB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627-89CE-41D6-904A-8CC0277A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B7F-6E68-42CA-A044-FEF6EF5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E03-373E-4D0A-A7AE-E323F89A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016-BACB-445D-8E29-86EDF1A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DA3-4ED4-4EA7-AD6A-0C2A1DDB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02B-2F4A-4046-8249-B126FC0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A74-3F41-4A25-B544-1FEEC64B2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7972-3F2C-4615-8BE5-E5C22E47A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効果と売上実績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広告デザイン研究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効果の分類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売上に貢献す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名度を上げ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企業イメージを向上す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告知を行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記憶に残らな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社の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広告料推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効果的な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とは？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0880" y="150192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47640" y="606744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この写真から何を連想しますか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効果的な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とは？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目で訴求内容が伝わ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視聴者に疑問点を残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視聴者を驚かせ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効果の循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171160" y="1924200"/>
            <a:ext cx="4728600" cy="4095360"/>
            <a:chOff x="2171160" y="1924200"/>
            <a:chExt cx="4728600" cy="4095360"/>
          </a:xfrm>
        </p:grpSpPr>
        <p:sp>
          <p:nvSpPr>
            <p:cNvPr id="134" name="_s56328"/>
            <p:cNvSpPr/>
            <p:nvPr/>
          </p:nvSpPr>
          <p:spPr>
            <a:xfrm>
              <a:off x="3092400" y="192420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e7c3"/>
                </a:gs>
              </a:gsLst>
              <a:lin ang="81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56329"/>
            <p:cNvSpPr/>
            <p:nvPr/>
          </p:nvSpPr>
          <p:spPr>
            <a:xfrm rot="7200000">
              <a:off x="3486600" y="260568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e7c3"/>
                </a:gs>
              </a:gsLst>
              <a:lin ang="9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56331"/>
            <p:cNvSpPr/>
            <p:nvPr/>
          </p:nvSpPr>
          <p:spPr>
            <a:xfrm rot="14400000">
              <a:off x="2699640" y="260568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e7c3"/>
                </a:gs>
              </a:gsLst>
              <a:lin ang="153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56326"/>
            <p:cNvSpPr/>
            <p:nvPr/>
          </p:nvSpPr>
          <p:spPr>
            <a:xfrm>
              <a:off x="5326200" y="245124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話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56327"/>
            <p:cNvSpPr/>
            <p:nvPr/>
          </p:nvSpPr>
          <p:spPr>
            <a:xfrm>
              <a:off x="3959280" y="482436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認知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56330"/>
            <p:cNvSpPr/>
            <p:nvPr/>
          </p:nvSpPr>
          <p:spPr>
            <a:xfrm>
              <a:off x="2585880" y="245268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売上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0:45:45Z</dcterms:created>
  <dc:creator>鈴木　誠</dc:creator>
  <dc:description/>
  <dc:language>en-US</dc:language>
  <cp:lastModifiedBy>鈴木　誠</cp:lastModifiedBy>
  <dcterms:modified xsi:type="dcterms:W3CDTF">2003-12-08T06:07:35Z</dcterms:modified>
  <cp:revision>8</cp:revision>
  <dc:subject/>
  <dc:title>CM効果と売上実績</dc:title>
</cp:coreProperties>
</file>