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09A-FA86-429D-A3E8-B6436A12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851-D21D-4E43-845B-117361FE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A8A-5FDF-459B-B55D-92AB74AF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200F-FEA7-4D9F-B67F-CD5D5837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A4ED-1638-4C89-877A-09490D86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F7D2-6C58-41D2-9DC4-D87A9A7F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F3E9-2C90-4B30-B9A6-BAED2A26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EED4-60F5-45F6-80F7-4533518F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18DD-AACC-4B58-BD2F-EBA2EE4E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4C2F-B771-411A-840E-88FAA4B0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0A97-FB8B-4EBF-A8BB-3FAC3572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8940-1BE5-4B41-A8C2-048BB97A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6141-8658-41FE-93A5-9200F330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77AA-4BAB-4BFF-9BCF-63CFE1B7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7316-00C4-4315-876F-AB3696EC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988C-EC6F-4D45-9DDA-F93C426A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0D65-C5EB-4031-A8CC-A8B51ABB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D3D-81AA-4AAB-8884-D9A970DB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BDC-E102-45CB-81C8-7C5F9956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539-0F34-4483-BA62-5E86CB73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C7F-8004-435A-9638-A48F3C7C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0832-D93E-4417-9F77-41D9FA22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49E-AC7D-4282-8AFF-35156B32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6721-D099-44F5-9E24-B2E498AB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3351-BF60-4C4F-9086-390D10C2A29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C91E-EB8B-4041-B30F-6DA5D8C4553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2003</a:t>
            </a:r>
            <a:r>
              <a:rPr b="0" lang="zh-CN" sz="54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年度研究発表</a:t>
            </a:r>
            <a:endParaRPr b="0" lang="en-US" sz="5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○○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大学科学技術研究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268360" y="213372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回定例学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Arial"/>
              </a:rPr>
              <a:t>今回発表する内容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度の研究目標と評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度研究内容の紹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予算と費用研究内容の発表（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分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9:54:56Z</dcterms:created>
  <dc:creator>鈴木　誠</dc:creator>
  <dc:description/>
  <dc:language>en-US</dc:language>
  <cp:lastModifiedBy>鈴木　誠</cp:lastModifiedBy>
  <dcterms:modified xsi:type="dcterms:W3CDTF">2003-11-26T11:24:37Z</dcterms:modified>
  <cp:revision>6</cp:revision>
  <dc:subject/>
  <dc:title>2003年度研究発表</dc:title>
</cp:coreProperties>
</file>